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C54-5074-4453-B7C2-3B811A24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750-8BB5-47FE-AB07-58CF88E4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F97-EA35-4747-9405-D4858D74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0E5-7771-4A2E-9ACA-30513F7A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09F-DA03-4401-BB4E-8D4D8F8A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033-2F8D-4454-9EDB-59C0AB11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F50-39E6-4EA5-B6FD-0F36D734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EF8-128C-4E19-8903-978E4BF1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305-72F1-4893-AC18-EC29A6B5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C9A-D9F9-4AFC-809C-0B62142F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DB9-2D48-41BC-BC6F-EE9B1A86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DFE-AE86-4E6D-BB8B-C136B662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2952D-E873-4A8B-AE9E-3DE40CAC15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D99B0-D2DF-4FA9-AAC3-8515B3B21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ill Sans Ultra Bold"/>
                <a:ea typeface="Gill Sans Ultra Bold"/>
              </a:rPr>
              <a:t>What is the meaning of “the medium is the message”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edium is the Messag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7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rshall McLuhan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nderstanding the Medi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196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4834080"/>
            <a:ext cx="4041720" cy="32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Marshall McLuh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-61920" y="2057400"/>
            <a:ext cx="5394240" cy="404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2"/>
          <a:stretch/>
        </p:blipFill>
        <p:spPr>
          <a:xfrm>
            <a:off x="4748040" y="1192320"/>
            <a:ext cx="3938760" cy="358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7"/>
          <p:cNvSpPr/>
          <p:nvPr/>
        </p:nvSpPr>
        <p:spPr>
          <a:xfrm>
            <a:off x="4110120" y="5265720"/>
            <a:ext cx="48369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rshal McLuhan’s books are the most important on the topic of the impact of mass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IN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460520"/>
            <a:ext cx="404028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new medium changes 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ever a new medium comes along, people naturally get caught up in the information—the “content”—it carries.  However, in the long run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medium’s content matters less than the medium itself in influencing how we think and a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4720" y="1460520"/>
            <a:ext cx="4273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focus on the medium’s content can blind us to its deep effects.  The content of the medium is jus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the juicy piece of meat carried by the burglar to distract the watchdog of the mind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troduction of every mass medium spurs a polarizing debate about its advantages and disadvantag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58:32Z</dcterms:created>
  <dc:creator>Jennifer</dc:creator>
  <dc:description/>
  <dc:language>en-US</dc:language>
  <cp:lastModifiedBy>Jennifer</cp:lastModifiedBy>
  <dcterms:modified xsi:type="dcterms:W3CDTF">2010-09-02T17:13:47Z</dcterms:modified>
  <cp:revision>5</cp:revision>
  <dc:subject/>
  <dc:title>“The Medium is the Message”</dc:title>
</cp:coreProperties>
</file>